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BB2D-5E94-4A80-B97A-B52593BAA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6C46-5AB8-49B6-A565-FAE3AA3E2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4BE-B266-47F6-900C-F3866BA7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5C4-D01D-43F2-9F48-17A0D4C3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F66-C219-471E-B218-74338716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02D-C34B-4CDC-8644-5817F7E5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0C47-71DB-40A0-A152-5F38B440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4E84-7A89-4EB7-8DB6-C5306776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476B-8BFA-4317-B0BA-DAB9A456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2267-0911-43A2-A0FC-43E7AEB1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763F-66C2-4630-9AA7-9B41EFF8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A29C-9FE9-494A-9E1E-C9E524ED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61B2-F840-4503-84D8-A1D6B96E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8AB2-239F-49B9-B7EE-35101662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A0D9-912D-428E-A8B9-E779BB2F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FCBD-7063-40B5-AA23-20729F16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4FE1-92E8-4025-B741-71363308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919B-6BFD-4B25-8207-BA2B9A56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C040-184F-401B-90E4-E9FD636E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891-B002-4FDE-93D6-4F7E2EBC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3F0-9974-4ECA-BC80-AA7C8248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40C-5DF0-44E7-99E1-804F8071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B30-5558-4621-9938-91ECB037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2E6-0E3D-4560-BCEE-9446CFDA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252-504C-44B1-B11D-4552A8F8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AD5-1091-4B31-849D-1DF8F0C7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62F9-AC32-4E9C-800D-6527B62C7F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5E42-2691-4178-93BD-0D3CF8E62A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274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МИНИСТЕРСТВО СПОРТА РОССИЙСКОЙ ФЕДЕРАЦИ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r>
              <a:rPr b="1" i="1" lang="ru-RU" sz="1200" spc="-1" strike="noStrike">
                <a:solidFill>
                  <a:srgbClr val="330066"/>
                </a:solidFill>
                <a:latin typeface="Arial"/>
              </a:rPr>
              <a:t>ФГУП "ЮЖНЫЙ ФЕДЕРАЛЬНЫЙ ЦЕНТР СПОРТИВНОЙ ПОДГОТОВКИ" (ФГУП "ЮГ СПОРТ") 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мандный чемпионат России по легкой атле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8-29.05.2015 г.                    г. Сочи ст. ФГУП «ЮГ СПОРТ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. Адлер ст. «Юность»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330066"/>
                </a:solidFill>
                <a:latin typeface="Arial"/>
              </a:rPr>
              <a:t>Командный чемпионат России по легкой атлетике</a:t>
            </a:r>
            <a:br>
              <a:rPr sz="1600"/>
            </a:br>
            <a:br>
              <a:rPr sz="16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28-29.05.2015 г.                    г. Сочи ст. ФГУП «ЮГ СПОРТ»</a:t>
            </a:r>
            <a:r>
              <a:rPr b="1" lang="ru-RU" sz="1200" spc="-1" strike="noStrike">
                <a:solidFill>
                  <a:srgbClr val="330066"/>
                </a:solidFill>
                <a:latin typeface="Times New Roman"/>
              </a:rPr>
              <a:t>  </a:t>
            </a:r>
            <a:br>
              <a:rPr sz="1200"/>
            </a:br>
            <a:r>
              <a:rPr b="1" lang="ru-RU" sz="1200" spc="-1" strike="noStrike">
                <a:solidFill>
                  <a:srgbClr val="330066"/>
                </a:solidFill>
                <a:latin typeface="Times New Roman"/>
              </a:rPr>
              <a:t>                                  </a:t>
            </a: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г. Адлер ст. «Юность»                                                                         </a:t>
            </a:r>
            <a:br>
              <a:rPr sz="1600"/>
            </a:br>
            <a:br>
              <a:rPr sz="16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11280" y="1557360"/>
          <a:ext cx="7377120" cy="4132080"/>
        </p:xfrm>
        <a:graphic>
          <a:graphicData uri="http://schemas.openxmlformats.org/drawingml/2006/table">
            <a:tbl>
              <a:tblPr/>
              <a:tblGrid>
                <a:gridCol w="2232000"/>
                <a:gridCol w="2152440"/>
                <a:gridCol w="1044720"/>
                <a:gridCol w="1947960"/>
              </a:tblGrid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ректор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орь Лото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делегат ВФ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лий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 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Ко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ди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Клоч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г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на Зайц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ган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ий менедж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иль П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йяр Айне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алья Шу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гей Бонд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хла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он Уй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кт-Петер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ячеслав Жар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тов-на-Д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. главного суд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ежда Лоблй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вр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5-05-28T18:41:48Z</cp:lastPrinted>
  <dcterms:modified xsi:type="dcterms:W3CDTF">2015-05-28T18:44:50Z</dcterms:modified>
  <cp:revision>43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